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8CA-E607-4800-8A3A-719F58B6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0D5-55E6-4A09-9471-B6AC5140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63A-1059-4F76-BC1A-8E735A41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F5D-1C58-4018-ABC7-CE09C82D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BF5-6868-41D6-A024-9673B05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FCD-936B-48C8-B6D4-071B470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453-70E7-49A8-BCC3-4E6049FA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182-740C-4F33-80AD-F1A5DDA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F3C-32DF-4E51-8F47-F913E22D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CC7-F514-475E-A0B2-CCF8651F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F82-90E2-4A29-91FE-D157A1D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8E6-0D4D-4016-9017-967479A9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BC15-5DF5-4537-AF29-E909C66B3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areercruising.com/" TargetMode="External"/><Relationship Id="rId2" Type="http://schemas.openxmlformats.org/officeDocument/2006/relationships/hyperlink" Target="http://www.nycareerzone.org/" TargetMode="External"/><Relationship Id="rId3" Type="http://schemas.openxmlformats.org/officeDocument/2006/relationships/hyperlink" Target="http://www.educationforadults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5e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oct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99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Job Outlo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uring 2006, there were approximately 1,540 Pediatricians employed in New Y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Y career zone estimated that in 2016 there will be 1,640 employed in New Yor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Satisfactions/Rewards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ward of  knowing that you helped som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ding cures for disea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ing their for both parents and ki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Comic Sans MS"/>
              </a:rPr>
              <a:t>Resou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careercruisi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nycareerzone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www.educationforadult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Job Descrip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ave to be interested in the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any different kinds of doctors such as, Family Practitioners and Pediatrici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rst responsibility is to diagnose patients injuries/il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Job Description Continu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eatments can include, dressing wounds, prescribing or administrating medication, arranging surgery, recommending rehabilitation or providing advice about exercise or nutr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Working Condi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doors in a office, hospital or doctors off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5780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Education and Training Requir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ducation- 4 years of undergraduate school, 4 years of medical school, 3-8 years of Internship and Resi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27432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Comic Sans MS"/>
              </a:rPr>
              <a:t>Skills/Abilities &amp; Person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Science and math ski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Needs to be able to listen to the patients probl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Skills/Abilities &amp; Personality Continu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ave to be caring and pat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Needs to be clear when communica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ave to be organiz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5a8e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Career Path and Related Jo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hospitals: Nurses, Orderlies and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office: Assistants, Nurses and Secreta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2781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ffff"/>
            </a:gs>
            <a:gs pos="50000">
              <a:srgbClr val="db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Earning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itical Care: $187,000 - $32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ernal Medicine: $154,000 – $238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ediatrics: $135,000 - $271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99360" y="4800600"/>
            <a:ext cx="2744640" cy="274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6:57:29Z</dcterms:created>
  <dc:creator>Administrator</dc:creator>
  <dc:description/>
  <dc:language>en-US</dc:language>
  <cp:lastModifiedBy>Administrator</cp:lastModifiedBy>
  <dcterms:modified xsi:type="dcterms:W3CDTF">2009-12-08T17:03:26Z</dcterms:modified>
  <cp:revision>10</cp:revision>
  <dc:subject/>
  <dc:title>Doctor</dc:title>
</cp:coreProperties>
</file>